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6739-F837-4241-B59A-EF115C9D3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83D9-A798-49D9-8927-C5A048A3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6C42-DE0F-44B9-A21A-D72B748BE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745E-490D-4D1F-9601-02DBD70D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EACE-945C-4C40-A97E-DE8CDFD49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B31D-D064-47B8-9AE7-19D51848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852C-D412-467E-B31E-28DCEE94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928C-01A4-4B0B-A64B-8E083027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486D-E2E1-4A3B-8D73-CDB3BD85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8FCA-1560-472C-BAAD-05C83249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A5C1-ACA4-45FF-A535-86D0ADEC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D2DE-5723-4215-A487-B4701661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7392-DBFB-4532-837F-4196A630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64C7-BC54-462A-91E2-A79E86F0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FF6D-B558-4274-99B1-10247078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548A-D973-42C1-892C-3BB916DF9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4FF3-1D56-4F79-82C8-5B802CC76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0B10-2EB8-45F3-8DA4-EE966ED8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02C1-6986-4FDD-99C8-F8841736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A32F-8ECB-44B1-AD24-129F2D2B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1500-B4E8-45F4-B647-E5773166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E5A7-B7CE-4F33-A294-19EB86C7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70F6-041D-47C0-9E0F-4A1B4633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CC65-0D0B-4936-B81B-955F6559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5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E92A-EC8A-42CA-BDB2-BC2F68DC4D3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5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96A1-0A2E-409F-B12A-AD8A413AD53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5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09d"/>
                </a:solidFill>
                <a:latin typeface="Palatino"/>
              </a:rPr>
              <a:t>Feature Artic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onversational Writing Sty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5800" y="561024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5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09d"/>
                </a:solidFill>
                <a:latin typeface="Palatino"/>
              </a:rPr>
              <a:t>Feature writers often use </a:t>
            </a:r>
            <a:r>
              <a:rPr b="1" lang="en-US" sz="4400" spc="-1" strike="noStrike">
                <a:solidFill>
                  <a:srgbClr val="ff0000"/>
                </a:solidFill>
                <a:latin typeface="Palatino"/>
              </a:rPr>
              <a:t>I</a:t>
            </a:r>
            <a:r>
              <a:rPr b="1" lang="en-US" sz="4400" spc="-1" strike="noStrike">
                <a:solidFill>
                  <a:srgbClr val="03009d"/>
                </a:solidFill>
                <a:latin typeface="Palatino"/>
              </a:rPr>
              <a:t> </a:t>
            </a:r>
            <a:r>
              <a:rPr b="0" lang="en-US" sz="4400" spc="-1" strike="noStrike">
                <a:solidFill>
                  <a:srgbClr val="03009d"/>
                </a:solidFill>
                <a:latin typeface="Palatino"/>
              </a:rPr>
              <a:t>and </a:t>
            </a:r>
            <a:r>
              <a:rPr b="1" lang="en-US" sz="4400" spc="-1" strike="noStrike">
                <a:solidFill>
                  <a:srgbClr val="ff0000"/>
                </a:solidFill>
                <a:latin typeface="Palatino"/>
              </a:rPr>
              <a:t>we</a:t>
            </a:r>
            <a:r>
              <a:rPr b="0" lang="en-US" sz="4400" spc="-1" strike="noStrike">
                <a:solidFill>
                  <a:srgbClr val="03009d"/>
                </a:solidFill>
                <a:latin typeface="Palatino"/>
              </a:rPr>
              <a:t> as they write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2754360"/>
            <a:ext cx="723888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y do this to make the reader feel more connect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3009d"/>
                </a:solidFill>
                <a:latin typeface="Arial"/>
              </a:rPr>
              <a:t>I play soccer every day because it is my all-time favorite sp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is is called writing in the first pers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5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7086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09d"/>
                </a:solidFill>
                <a:latin typeface="Palatino"/>
              </a:rPr>
              <a:t>Feature writers ask the reader questions as if he or she could answer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133720" y="3276360"/>
            <a:ext cx="68580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Palatino"/>
              </a:rPr>
              <a:t>Can you imagine eating insec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Palatino"/>
              </a:rPr>
              <a:t>Do you believe my mother left me alone in the back seat of my ca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5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09d"/>
                </a:solidFill>
                <a:latin typeface="Palatino"/>
              </a:rPr>
              <a:t>Feature writers tell the reader about their feelings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f confi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 knew I could do it if she would just give me a ch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 could hardly believe the teacher would call on me when she knew I did not have the answ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f F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ything could happen, I could break my le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 held my breath waiting to see what would happen nex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r other emo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5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533520" y="609120"/>
            <a:ext cx="10134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09d"/>
                </a:solidFill>
                <a:latin typeface="Palatino"/>
              </a:rPr>
              <a:t>Feature writers write as if they were speaking directly to the reader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25146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Palatino"/>
              </a:rPr>
              <a:t>You have probably seen your mother bake cookies a hundred tim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09d"/>
                </a:solidFill>
                <a:latin typeface="Palatino"/>
              </a:rPr>
              <a:t>They might even add a comment to connect the reader even mo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Palatino"/>
              </a:rPr>
              <a:t>Your mom probably lets you help just like mine do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5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09d"/>
                </a:solidFill>
                <a:latin typeface="Palatino"/>
              </a:rPr>
              <a:t>Writing Conferenc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228276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s you write, try to use some of these strategies.  I will be asking you if you are using a </a:t>
            </a:r>
            <a:r>
              <a:rPr b="0" lang="en-US" sz="3600" spc="-1" strike="noStrike">
                <a:solidFill>
                  <a:srgbClr val="03009d"/>
                </a:solidFill>
                <a:latin typeface="Arial"/>
              </a:rPr>
              <a:t>conversational writing style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in your artic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8T13:24:41Z</dcterms:created>
  <dc:creator>AAPS</dc:creator>
  <dc:description/>
  <dc:language>en-US</dc:language>
  <cp:lastModifiedBy>AAPS</cp:lastModifiedBy>
  <cp:lastPrinted>2005-10-17T18:45:35Z</cp:lastPrinted>
  <dcterms:modified xsi:type="dcterms:W3CDTF">2005-10-20T05:16:19Z</dcterms:modified>
  <cp:revision>7</cp:revision>
  <dc:subject/>
  <dc:title>FEATURE ARTICLES</dc:title>
</cp:coreProperties>
</file>